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165-3D89-45C7-A2F5-56D519A7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6C2-D44A-44F3-BF82-F8AC8FA0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6E-9238-474B-A62E-D140DE84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FC-25EC-4B56-AE0B-15606CF6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B0B5-DEA4-4142-874E-F036074A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A9F-30A6-4470-87EE-598B361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FF8-6CDA-4D72-8B6A-D8F46E8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170-18FA-4619-B535-48828426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3FB-C1EB-428C-9B56-CD78B02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40A7-F31D-457E-A93D-B01D616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8A49-7060-480A-881B-A661B68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F54-3D90-49A4-BEE5-4C2CF3A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673-DD4F-4133-89C1-EC724E5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D052-5E34-4C1B-9A04-CCD2D14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E8C7-515C-4DD1-B982-FAE2779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892D-D4D1-47C5-A440-14DCB8A8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730F-ECD1-463A-9B1C-97F6FE48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40B-9B8B-461E-8AE1-F491656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9FA-A7E0-41C7-90D7-A537B0D4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ED7-6A80-4EEA-8230-18BBCDB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009-35AC-442F-8348-1F530E7C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5EA-0B8E-4E08-9B6B-B91B41A4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9C6-723D-45E5-92E2-073524D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273-090C-4467-A1B4-607441A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2426-F6FA-4591-BA42-612F8455D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C530-54E6-4544-A29F-765C42FC5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ee320c"/>
                </a:solidFill>
                <a:latin typeface="Times New Roman"/>
              </a:rPr>
              <a:t>Метрология қатысты негізгі терминдер мен анықтамалар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бірліг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нәтижелері көрсетілген шама бірліктерінде берілген, өлшеу жағдайы, ал өлшеу қателігі берілтен ықтималдықпен қойылған шектен шықпауы керек.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етрологиялық қызмет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бірлігін қамтамасыз етуге бағытталған субъектілер жиынтығының іс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кеттері мен жұмыс түрлер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ee320c"/>
                </a:solidFill>
                <a:latin typeface="Times New Roman"/>
              </a:rPr>
              <a:t>Өлшеу күралдарын тексеру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 - қойылған талаптарға өлшеу құралдарының с</a:t>
            </a:r>
            <a:r>
              <a:rPr b="1" lang="kk-KZ" sz="38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йкестілігін</a:t>
            </a:r>
            <a:r>
              <a:rPr b="1" i="1" lang="ru-RU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анықтау мен мақұлдау мақсатымен мемлекеттік метрологиялық қызмет органдары орындаятын операциялар жиынтығы.</a:t>
            </a:r>
            <a:br>
              <a:rPr sz="3800"/>
            </a:br>
            <a:r>
              <a:rPr b="1" lang="ru-RU" sz="3800" spc="-1" strike="noStrike">
                <a:solidFill>
                  <a:srgbClr val="ee320c"/>
                </a:solidFill>
                <a:latin typeface="Times New Roman"/>
              </a:rPr>
              <a:t>Физикалық шама</a:t>
            </a: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 кез келген ғылым саласындағы зерттелетін материалдық жүйе және объектілерді бейнелеуде қолданылады.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м (мера)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берілген мөлшердің физикалық шамасын қайта қалпына келтіруге арналған өлшеу құралы. 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йтін аспаптар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бақылаушымен тікелей қабылдай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латын түріндегі, өлшеу-ақпарат сапасын жасауға арналған өлшеу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ұрал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 түрлендіргіші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еруге ыңғайлы ж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і қарай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үрлендіруге арналған түріндегі ақпарат сигналын жасауга арналған өлшеу құралы, бірақ та бақылаушы сигналды тікелей қабылдай алмайды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 қондырғысы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ір жерде орналасқан және бақылаушымен тікелей қабылдауға ыңғайлы түрдегі өлшеу-ақпарат сигналын жасауға арналган өлшеу кұралдары мен көмекші құралдар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-ақпаратт жүйесі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объектіні қарау, өңдеу мен басқаруға болатын, бір-бірімен өзара байланыс каналымен жалғастырылған ж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 өлшеу ақпаратын алуға арналған өлшеу кұралдары мен көмекші құралдарының жиынтығ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Стандартты үлгілер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ір немесе бірнеше шамалардың м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дерін метрологиялық аттестадиялау н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ижесінде койылған бұл заттардың құрамын немесе қасиетін сипаттайтын зат үлгісі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Метрологиялық бақылау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ұл іс-әрекет метрологиялық қызметінің мемлекеттік басқару органдары мен заңды түлғалардың метрологиялық ережелер мен нормалардың орындалуын тексеру мақсатымен жүргізіледі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Мемлекеттік метрологиялық қадағалауға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бүл мемлекеттік қадағалау бойынша инспектор-лардың өлшеу қүралдарының жаса- лыну жағдайымен қолданылуы, өлшеуді жүргізу әдістемесі, метро- логиялық ережелер мен нормаларды орындау жэне т.б. қадағалау жатады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қ</a:t>
            </a:r>
            <a:r>
              <a:rPr b="1" lang="kk-KZ" sz="40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ралын калибрлеу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ү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мемлекеттік қадағалауға жатпайтын өлшеу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жарамдылығы мен нағыз метрологиялық сипаттамасын қою мақсатымен эталон көмегімен анықталған сәйкес шама мәні мен өлшеу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н алынған шама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і арасындағы қатынасты қоятын операциялар жиынтығ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«Метрология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деген сөз грекшеден аударғанда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«мерос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және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«логос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білім деген екі сөзден тұрады.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етролог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бірлігін қамтамасыз ететі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істер мен құралдар және керекті д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дікке жету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ілдері туралы ғылым.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 қ</a:t>
            </a:r>
            <a:r>
              <a:rPr b="1" lang="kk-KZ" sz="44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ралдарын калибрлеуді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өткізуге бекітілген т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тіпте аккредитеуден өткен метрологиялық қызмет бөлімшесінің заңды т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ғаларының қ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ысы бар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Өлшеу қ</a:t>
            </a:r>
            <a:r>
              <a:rPr b="1" lang="kk-KZ" sz="4400" spc="-1" strike="noStrike">
                <a:solidFill>
                  <a:srgbClr val="ee320c"/>
                </a:solidFill>
                <a:latin typeface="Times New Roman"/>
              </a:rPr>
              <a:t>ұ</a:t>
            </a:r>
            <a:r>
              <a:rPr b="1" lang="ru-RU" sz="4400" spc="-1" strike="noStrike">
                <a:solidFill>
                  <a:srgbClr val="ee320c"/>
                </a:solidFill>
                <a:latin typeface="Times New Roman"/>
              </a:rPr>
              <a:t>ралын сынау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- оларды сынау кезінде сыналатын объектіге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түрлі сынау әсерлер (пайдалану кезінде оларға әсер ететін 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лер) қолдану арқылы бекітілген нормаларға с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йкестілік д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жесін анықтау үшін өткізілетін операңиялар жиынтығы</a:t>
            </a: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846144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«Теориялық метролог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метрологияның іргелі негіздерін зерттеп дайындаумен айналысады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Занды метролог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қолдануға жіберіл-ген мемлекетгік талаптарды бекітед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Қолданбалы метролог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теориялық метрология зерттеп дайындағандарды тәжірибе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г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қолданумен айналысад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арнайы техникалық құралдар көмегімен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ірибе жолымен шама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ін табу. Мысал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 объектінің ұзындығын, биіктігін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басқа параметрлерін олшеу құралымен анықтау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әдіс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құралдары мен өлшеу принциптерін қолдану амалдарының жиынтығы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принцип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негізіне физикалық құбылыс немесе физикалық құбылыстар жиынтығы алынған. Мысалы, массасына пропорционалды ауырлық күшін таразыға тарту арқылы дененің массасын өлшеу, термоэлектрлік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рді пайдаланып, температураны өлшеу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320c"/>
                </a:solidFill>
                <a:latin typeface="Times New Roman"/>
              </a:rPr>
              <a:t>Өлшеу қателіктер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шеу кезінде алынған X мәні мен өлшенген шама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Q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– нақты 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інің айырмасы. Өлшеу қателігі Δ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= Х – Q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ормуласымен анықталады. Өлшеу қателіктері, өлшеу әдістері мен құралдарының жетілмегендігінен, бақылау шартының тұрақсыздығынан, бақылаушы тәжірибесінің жетіспеуінен және оның сезім органдарының ерекшеліктерінен құралады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320c"/>
                </a:solidFill>
                <a:latin typeface="Times New Roman"/>
              </a:rPr>
              <a:t>Өлшеу дұрыстығ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желердің жүйелік қателіктерінің 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ге жуықтығын көрсететін (шаманы қайталап өлшегенде бірқалыпты қалатын, немесе бір заңдылыққа сүйеніп өзгеріп отыратын қателіктер) өлшеудің сапасы ретінде анықталады. Өлшеудің дұрысты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ы, өлшеу жүргізілген бірліктің нақты өлшемі оның шын өлшемінен (анықтама бойынша) айрықшылығына байланысты, атап айт қанда, осы өлшеу түріне алынған өлшеу құралдарының таңдалу д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жесіне байланысты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етрологияның объектілеріне келесілер жатады: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ама бірлігі; өлшеу құралдары; этолондар; өлшеуді орындау әдістері. 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Метрологияның дәстүрлі объектілеріне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физикалық шама жатады. 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құрал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нормаланған метрлогиялық сипаттамалы, өлшеуге арналған техникалық құрал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61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Өлшеу дәлдіг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әтижелері өлшенетін шаманың нақты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ге жуықтығын көрсететін өлшеу көрсеткіштері. Д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дікті сан ретінде ықтималды қателіктің модуліне кері шамамен көрсетуге болады. </a:t>
            </a:r>
            <a:br>
              <a:rPr sz="4000"/>
            </a:br>
            <a:r>
              <a:rPr b="1" lang="ru-RU" sz="4000" spc="-1" strike="noStrike">
                <a:solidFill>
                  <a:srgbClr val="ee320c"/>
                </a:solidFill>
                <a:latin typeface="Times New Roman"/>
              </a:rPr>
              <a:t>Шама бірлігінің эталон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шама бірлігін қайта жаң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рту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сақтауға арналған өлшеу құралдары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31T09:52:4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